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6452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F6C2B-35AD-467F-B8DE-5E4118FD78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508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68DD7-ED13-437E-B60C-3A587E61FC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508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AE169-9832-41C5-AAD5-7B1BFE11A2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508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B8C6E-879A-4799-8DB5-222CF906C1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3ADCC-EA1F-4150-8154-B0B8ACED0A3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508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42B1F-E022-4F9D-8B7E-77BA1580522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508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9C71C-7018-489D-B74E-8FF148849A1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508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405A3-077E-46CB-AAAD-BB3A023E1B4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508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A03B0-6233-4376-BD30-CCD131BA7F4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91800"/>
            <a:ext cx="8229600" cy="69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A167C-8167-4670-B36D-B15A1CE72CF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508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861A5-6D4B-4FCE-9284-61F6A98EFFF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508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BB179-7725-45C5-8EFB-F2D5C34BB5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508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B287C-E094-4662-9130-A4CC2A9F853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508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CEA3E-0147-4478-993E-BB7C7271632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508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8E75E-8CF9-4BE7-9DCB-BF500BBBDC5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508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4EB70-A14A-484B-8386-6A0C68071FA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508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60570-7348-4BC3-98FA-0E849D7CE09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8337-4E5C-4D79-9AD2-F347D40581F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508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E077-2E2A-48C0-9E02-FF8A1789723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508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B014-F729-4E02-B21A-D4B100E096B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508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B11B-B179-4298-A6A3-387EB5156F7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508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39CF-875F-49D7-8323-88D4208F58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508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43CAF-B2EA-4814-9642-07166A25067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91800"/>
            <a:ext cx="8229600" cy="69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1C21-5AD6-4E5B-83AF-95AF7CD1468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508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5F94-702A-4C67-AC05-489A39C5742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508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077A-1555-4C26-9448-C6910FB1966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508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E986-DD05-487A-B783-63F65E8BC35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508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F7D7-412F-4AEC-BC08-A96967381C8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508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9451-00E2-4490-93E9-968D8C6085C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508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B5DA-7174-4CB0-ADED-68301908EC8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0B3B82-248B-4C6E-AA5F-CB017D468CC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508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524567-BCB7-4F0E-8C05-FB0CB70EF8B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508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1279AF-8FD7-42A6-AB7B-C35EA82565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508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C540E-ABE4-4A63-9702-16ED145A029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508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E905BA-A236-4A8D-BD4E-48536D54605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508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1C9B3F-6416-4C13-A8A9-9FF5E369829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91800"/>
            <a:ext cx="8229600" cy="69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0D9173-EF41-4E36-B72A-0071B9CCD05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508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0B7151-DED7-4979-B8AE-76FB3AE6B95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508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0419FE-B0BF-4EC8-B33C-E42328518F9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508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F986C1-66A7-46D8-8016-FC9C3550206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508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6CA388-2A09-498A-94D3-133BF2680DB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508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F32201-5DC8-455A-A437-8C65F3600A3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508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E12E08-1F7C-4986-9232-F55FDFD210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508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26766-80A8-4D1B-8420-1BFCC8CCCC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91800"/>
            <a:ext cx="8229600" cy="69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51FD9-A76D-4439-86BF-4F9E7F9C4E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508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2DF94-E329-44C5-B845-1DB78D7606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508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9031A-5447-4F12-84ED-7B2640B6D5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508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DAD3D-B986-4E7F-98DA-6B51456E50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1.png" descr=""/>
          <p:cNvPicPr/>
          <p:nvPr/>
        </p:nvPicPr>
        <p:blipFill>
          <a:blip r:embed="rId2"/>
          <a:srcRect l="1548" t="4918" r="16549" b="5446"/>
          <a:stretch/>
        </p:blipFill>
        <p:spPr>
          <a:xfrm>
            <a:off x="0" y="5589720"/>
            <a:ext cx="9144000" cy="1296720"/>
          </a:xfrm>
          <a:prstGeom prst="rect">
            <a:avLst/>
          </a:prstGeom>
          <a:ln w="0">
            <a:noFill/>
          </a:ln>
        </p:spPr>
      </p:pic>
      <p:pic>
        <p:nvPicPr>
          <p:cNvPr id="1" name="image2.jpeg" descr=""/>
          <p:cNvPicPr/>
          <p:nvPr/>
        </p:nvPicPr>
        <p:blipFill>
          <a:blip r:embed="rId3"/>
          <a:srcRect l="0" t="9099" r="0" b="12879"/>
          <a:stretch/>
        </p:blipFill>
        <p:spPr>
          <a:xfrm>
            <a:off x="473040" y="6159600"/>
            <a:ext cx="1981080" cy="633240"/>
          </a:xfrm>
          <a:prstGeom prst="rect">
            <a:avLst/>
          </a:prstGeom>
          <a:ln w="0">
            <a:noFill/>
          </a:ln>
        </p:spPr>
      </p:pic>
      <p:grpSp>
        <p:nvGrpSpPr>
          <p:cNvPr id="2" name="Group 6"/>
          <p:cNvGrpSpPr/>
          <p:nvPr/>
        </p:nvGrpSpPr>
        <p:grpSpPr>
          <a:xfrm>
            <a:off x="69840" y="2409840"/>
            <a:ext cx="9053640" cy="1089000"/>
            <a:chOff x="69840" y="2409840"/>
            <a:chExt cx="9053640" cy="1089000"/>
          </a:xfrm>
        </p:grpSpPr>
        <p:pic>
          <p:nvPicPr>
            <p:cNvPr id="3" name="image3.jpeg" descr=""/>
            <p:cNvPicPr/>
            <p:nvPr/>
          </p:nvPicPr>
          <p:blipFill>
            <a:blip r:embed="rId4"/>
            <a:srcRect l="2109" t="0" r="1915" b="0"/>
            <a:stretch/>
          </p:blipFill>
          <p:spPr>
            <a:xfrm>
              <a:off x="69840" y="2409840"/>
              <a:ext cx="9053640" cy="108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image4.png" descr=""/>
            <p:cNvPicPr/>
            <p:nvPr/>
          </p:nvPicPr>
          <p:blipFill>
            <a:blip r:embed="rId5"/>
            <a:stretch/>
          </p:blipFill>
          <p:spPr>
            <a:xfrm>
              <a:off x="5292360" y="2454840"/>
              <a:ext cx="2615760" cy="99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" name="Shape 7"/>
          <p:cNvSpPr/>
          <p:nvPr/>
        </p:nvSpPr>
        <p:spPr>
          <a:xfrm>
            <a:off x="0" y="0"/>
            <a:ext cx="9144000" cy="206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sldNum" idx="1"/>
          </p:nvPr>
        </p:nvSpPr>
        <p:spPr>
          <a:xfrm>
            <a:off x="4419720" y="6171840"/>
            <a:ext cx="2133360" cy="368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88888"/>
                </a:solidFill>
                <a:latin typeface="Calibri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A6E8D-1DAC-49CD-B7DF-4DC45BF9B974}" type="slidenum">
              <a:rPr b="0" lang="en-US" sz="1200" spc="-1" strike="noStrike">
                <a:solidFill>
                  <a:srgbClr val="888888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508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82640" indent="-325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219320" indent="-304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736640" indent="-365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193840" indent="-365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193840" indent="-365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193840" indent="-365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image1.png" descr=""/>
          <p:cNvPicPr/>
          <p:nvPr/>
        </p:nvPicPr>
        <p:blipFill>
          <a:blip r:embed="rId2"/>
          <a:srcRect l="1548" t="4918" r="16549" b="5446"/>
          <a:stretch/>
        </p:blipFill>
        <p:spPr>
          <a:xfrm>
            <a:off x="0" y="5589720"/>
            <a:ext cx="9144000" cy="1296720"/>
          </a:xfrm>
          <a:prstGeom prst="rect">
            <a:avLst/>
          </a:prstGeom>
          <a:ln w="0">
            <a:noFill/>
          </a:ln>
        </p:spPr>
      </p:pic>
      <p:pic>
        <p:nvPicPr>
          <p:cNvPr id="46" name="image2.jpeg" descr=""/>
          <p:cNvPicPr/>
          <p:nvPr/>
        </p:nvPicPr>
        <p:blipFill>
          <a:blip r:embed="rId3"/>
          <a:srcRect l="0" t="9099" r="0" b="12879"/>
          <a:stretch/>
        </p:blipFill>
        <p:spPr>
          <a:xfrm>
            <a:off x="473040" y="6159600"/>
            <a:ext cx="1981080" cy="6332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508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82640" indent="-325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219320" indent="-304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736640" indent="-365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193840" indent="-365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193840" indent="-365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193840" indent="-365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8423280" y="6400440"/>
            <a:ext cx="263520" cy="276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88888"/>
                </a:solidFill>
                <a:latin typeface="Calibri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4D127-2CC8-407D-AE4A-5D3606F73267}" type="slidenum">
              <a:rPr b="0" lang="en-US" sz="1200" spc="-1" strike="noStrike">
                <a:solidFill>
                  <a:srgbClr val="888888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image1.png" descr=""/>
          <p:cNvPicPr/>
          <p:nvPr/>
        </p:nvPicPr>
        <p:blipFill>
          <a:blip r:embed="rId2"/>
          <a:srcRect l="1548" t="4918" r="16549" b="5446"/>
          <a:stretch/>
        </p:blipFill>
        <p:spPr>
          <a:xfrm>
            <a:off x="0" y="5589720"/>
            <a:ext cx="9144000" cy="1296720"/>
          </a:xfrm>
          <a:prstGeom prst="rect">
            <a:avLst/>
          </a:prstGeom>
          <a:ln w="0">
            <a:noFill/>
          </a:ln>
        </p:spPr>
      </p:pic>
      <p:pic>
        <p:nvPicPr>
          <p:cNvPr id="87" name="image2.jpeg" descr=""/>
          <p:cNvPicPr/>
          <p:nvPr/>
        </p:nvPicPr>
        <p:blipFill>
          <a:blip r:embed="rId3"/>
          <a:srcRect l="0" t="9099" r="0" b="12879"/>
          <a:stretch/>
        </p:blipFill>
        <p:spPr>
          <a:xfrm>
            <a:off x="473040" y="6159600"/>
            <a:ext cx="1981080" cy="6332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508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82640" indent="-325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219320" indent="-304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736640" indent="-365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193840" indent="-365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193840" indent="-365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193840" indent="-365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3"/>
          </p:nvPr>
        </p:nvSpPr>
        <p:spPr>
          <a:xfrm>
            <a:off x="8423280" y="6400440"/>
            <a:ext cx="263520" cy="276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88888"/>
                </a:solidFill>
                <a:latin typeface="Calibri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95D09-2E9E-4997-885F-D53484A84D33}" type="slidenum">
              <a:rPr b="0" lang="en-US" sz="1200" spc="-1" strike="noStrike">
                <a:solidFill>
                  <a:srgbClr val="888888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image1.png" descr=""/>
          <p:cNvPicPr/>
          <p:nvPr/>
        </p:nvPicPr>
        <p:blipFill>
          <a:blip r:embed="rId2"/>
          <a:srcRect l="1548" t="4918" r="16549" b="5446"/>
          <a:stretch/>
        </p:blipFill>
        <p:spPr>
          <a:xfrm>
            <a:off x="0" y="5589720"/>
            <a:ext cx="9144000" cy="1296720"/>
          </a:xfrm>
          <a:prstGeom prst="rect">
            <a:avLst/>
          </a:prstGeom>
          <a:ln w="0">
            <a:noFill/>
          </a:ln>
        </p:spPr>
      </p:pic>
      <p:pic>
        <p:nvPicPr>
          <p:cNvPr id="128" name="image2.jpeg" descr=""/>
          <p:cNvPicPr/>
          <p:nvPr/>
        </p:nvPicPr>
        <p:blipFill>
          <a:blip r:embed="rId3"/>
          <a:srcRect l="0" t="9099" r="0" b="12879"/>
          <a:stretch/>
        </p:blipFill>
        <p:spPr>
          <a:xfrm>
            <a:off x="473040" y="6159600"/>
            <a:ext cx="1981080" cy="6332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508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82640" indent="-325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219320" indent="-304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736640" indent="-365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193840" indent="-365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193840" indent="-365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193840" indent="-365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4"/>
          </p:nvPr>
        </p:nvSpPr>
        <p:spPr>
          <a:xfrm>
            <a:off x="8423280" y="6400440"/>
            <a:ext cx="263520" cy="276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88888"/>
                </a:solidFill>
                <a:latin typeface="Calibri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119EA-17CA-45A7-8827-0F63734114F6}" type="slidenum">
              <a:rPr b="0" lang="en-US" sz="1200" spc="-1" strike="noStrike">
                <a:solidFill>
                  <a:srgbClr val="888888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hape 75"/>
          <p:cNvSpPr/>
          <p:nvPr/>
        </p:nvSpPr>
        <p:spPr>
          <a:xfrm>
            <a:off x="468360" y="1349280"/>
            <a:ext cx="7572240" cy="42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15b21"/>
                </a:solidFill>
                <a:latin typeface="Century Gothic"/>
                <a:ea typeface="Arial"/>
              </a:rPr>
              <a:t>SOEs and their Role in the Economy of BRICS Member Countri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15b21"/>
                </a:solidFill>
                <a:latin typeface="Century Gothic"/>
                <a:ea typeface="Arial"/>
              </a:rPr>
              <a:t>Presentation by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15b21"/>
                </a:solidFill>
                <a:latin typeface="Century Gothic"/>
                <a:ea typeface="Arial"/>
              </a:rPr>
              <a:t>Mr Mogokare Richard Selek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15b21"/>
                </a:solidFill>
                <a:latin typeface="Century Gothic"/>
                <a:ea typeface="Arial"/>
              </a:rPr>
              <a:t>Director General, Department of Public Enterpri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15b21"/>
                </a:solidFill>
                <a:latin typeface="Century Gothic"/>
                <a:ea typeface="Arial"/>
              </a:rPr>
              <a:t>Republic of South Africa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hape 76"/>
          <p:cNvSpPr/>
          <p:nvPr/>
        </p:nvSpPr>
        <p:spPr>
          <a:xfrm>
            <a:off x="8585280" y="6653520"/>
            <a:ext cx="711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ECFB3-CCDA-43F6-8F16-1648AC14DC32}" type="slidenum">
              <a:rPr b="0" lang="en-US" sz="10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hape 77"/>
          <p:cNvSpPr/>
          <p:nvPr/>
        </p:nvSpPr>
        <p:spPr>
          <a:xfrm>
            <a:off x="3388680" y="5789520"/>
            <a:ext cx="209484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  <a:ea typeface="Arial"/>
              </a:rPr>
              <a:t>18 November 2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hape 79"/>
          <p:cNvSpPr/>
          <p:nvPr/>
        </p:nvSpPr>
        <p:spPr>
          <a:xfrm>
            <a:off x="8245800" y="6406200"/>
            <a:ext cx="711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BBBD4-74AA-43ED-B2F1-404AE35F6C2C}" type="slidenum">
              <a:rPr b="0" lang="en-US" sz="10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hape 80"/>
          <p:cNvSpPr/>
          <p:nvPr/>
        </p:nvSpPr>
        <p:spPr>
          <a:xfrm>
            <a:off x="758880" y="119160"/>
            <a:ext cx="75740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84807"/>
                </a:solidFill>
                <a:latin typeface="Arial"/>
                <a:ea typeface="Arial"/>
              </a:rPr>
              <a:t>Presentation Outli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hape 81"/>
          <p:cNvSpPr/>
          <p:nvPr/>
        </p:nvSpPr>
        <p:spPr>
          <a:xfrm>
            <a:off x="324000" y="760320"/>
            <a:ext cx="84438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rmAutofit/>
          </a:bodyPr>
          <a:p>
            <a:pPr marL="285840" indent="-28584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conomic Performance of BRICS Member Countri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fluence of economic performance on economic systems and model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le of State Owned Enterprises (SOEs) in the econom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volution of SOEs and their influence in international busines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merging role of BRICS’ SO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clus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991040" y="1150560"/>
            <a:ext cx="4152960" cy="4815000"/>
          </a:xfrm>
          <a:prstGeom prst="rect">
            <a:avLst/>
          </a:prstGeom>
          <a:noFill/>
          <a:ln w="12600">
            <a:solidFill>
              <a:srgbClr val="d9d9d9"/>
            </a:solidFill>
            <a:miter/>
          </a:ln>
        </p:spPr>
        <p:txBody>
          <a:bodyPr lIns="45720" rIns="4572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period between 2000 and 2008 saw acceleration in the growth rate of BRICS countrie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s was driven largely by commodity boom emanating from China’s rapid industrialisation and high demand of consumer good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st 2008/09 BRICS countries have struggled to increase their growth level to the pre-crisis leve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owth performance in Brazil, Russia and South Africa are projected to remain below the global average growth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hape 79"/>
          <p:cNvSpPr/>
          <p:nvPr/>
        </p:nvSpPr>
        <p:spPr>
          <a:xfrm>
            <a:off x="8199720" y="6405840"/>
            <a:ext cx="711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2AC86-2AF6-45FF-BB20-23A091A2E148}" type="slidenum">
              <a:rPr b="0" lang="en-US" sz="10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hape 80"/>
          <p:cNvSpPr/>
          <p:nvPr/>
        </p:nvSpPr>
        <p:spPr>
          <a:xfrm>
            <a:off x="758880" y="163440"/>
            <a:ext cx="757404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84807"/>
                </a:solidFill>
                <a:latin typeface="Arial"/>
                <a:ea typeface="Arial"/>
              </a:rPr>
              <a:t>Economic Performance of BRICS Member Countri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3" descr=""/>
          <p:cNvPicPr/>
          <p:nvPr/>
        </p:nvPicPr>
        <p:blipFill>
          <a:blip r:embed="rId1"/>
          <a:stretch/>
        </p:blipFill>
        <p:spPr>
          <a:xfrm>
            <a:off x="0" y="1150920"/>
            <a:ext cx="4991040" cy="4815000"/>
          </a:xfrm>
          <a:prstGeom prst="rect">
            <a:avLst/>
          </a:prstGeom>
          <a:ln w="9360">
            <a:solidFill>
              <a:srgbClr val="bfbfbf"/>
            </a:solidFill>
            <a:miter/>
          </a:ln>
        </p:spPr>
      </p:pic>
      <p:pic>
        <p:nvPicPr>
          <p:cNvPr id="178" name="TextBox 4" descr=""/>
          <p:cNvPicPr/>
          <p:nvPr/>
        </p:nvPicPr>
        <p:blipFill>
          <a:blip r:embed="rId2"/>
          <a:stretch/>
        </p:blipFill>
        <p:spPr>
          <a:xfrm>
            <a:off x="2639880" y="6059520"/>
            <a:ext cx="1719360" cy="4334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hape 79"/>
          <p:cNvSpPr/>
          <p:nvPr/>
        </p:nvSpPr>
        <p:spPr>
          <a:xfrm>
            <a:off x="8245800" y="6406200"/>
            <a:ext cx="711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5D76E-EFAD-463A-9B98-A913E190738E}" type="slidenum">
              <a:rPr b="0" lang="en-US" sz="10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hape 80"/>
          <p:cNvSpPr/>
          <p:nvPr/>
        </p:nvSpPr>
        <p:spPr>
          <a:xfrm>
            <a:off x="419040" y="36360"/>
            <a:ext cx="82677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84807"/>
                </a:solidFill>
                <a:latin typeface="Arial"/>
                <a:ea typeface="Arial"/>
              </a:rPr>
              <a:t>Implication of the economic performance on economic systems and model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hape 81"/>
          <p:cNvSpPr/>
          <p:nvPr/>
        </p:nvSpPr>
        <p:spPr>
          <a:xfrm>
            <a:off x="185760" y="1112760"/>
            <a:ext cx="8737560" cy="45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lvl="2"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global economy continues to remain weak and key questions have been raised around the capitalist economic system that drive resource allocation and distribution of benefit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economic crisis showed that an alternative economic model was necessary to alter the principles of the free market system that have dominated the management and distribution of resourc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growth outlook for the BRICS countries shows that a new growth model needs to be pursued that will promote stability and unlock investments into the productive and other sectors of the economy. This must ensure economic developm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1430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hape 79"/>
          <p:cNvSpPr/>
          <p:nvPr/>
        </p:nvSpPr>
        <p:spPr>
          <a:xfrm>
            <a:off x="8245800" y="6406200"/>
            <a:ext cx="711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23993-E129-47FA-82D1-0CC10281D381}" type="slidenum">
              <a:rPr b="0" lang="en-US" sz="10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hape 80"/>
          <p:cNvSpPr/>
          <p:nvPr/>
        </p:nvSpPr>
        <p:spPr>
          <a:xfrm>
            <a:off x="758880" y="225360"/>
            <a:ext cx="757404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84807"/>
                </a:solidFill>
                <a:latin typeface="Arial"/>
                <a:ea typeface="Arial"/>
              </a:rPr>
              <a:t>Role of SOEs in the economy: Rationale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hape 81"/>
          <p:cNvSpPr/>
          <p:nvPr/>
        </p:nvSpPr>
        <p:spPr>
          <a:xfrm>
            <a:off x="324000" y="1125360"/>
            <a:ext cx="8443800" cy="50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overnment involves itself in the market in a variety of ways. One of the ways that the State intervenes in the market is through the creation of a State-owned company (SOC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t is increasingly recognised that State intervention in economic activities is necessary to correct a market failure and/or drive investments into sectors that are critical for long term growth and broader economic developmen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cordingly, governments in developing economies must constantly engage in business activities which, in more developed countries, are carried out by private firm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secondary justification is the belief that only government is capable of providing sufficient investment for technical modernisation of major national industries. The State-owned enterprises are developed to support these national industrie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1430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1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84807"/>
                </a:solidFill>
                <a:latin typeface="Arial"/>
                <a:ea typeface="Arial"/>
              </a:rPr>
              <a:t>Evolution of SO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928800"/>
            <a:ext cx="8229600" cy="5524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st two decades of the 2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century saw an increased influence of Bretton Wood institutions in the economic policy discourse with the following implications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540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ystematic reduction of Government influence on the economy and allowing of private interest to determine resource allocation and distribution of benefits; an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540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roduction of privatisation policies that encouraged the creation of private monopolies that disadvantaged the working clas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saw a reduction of the role of Government in the economy and the thriving of a free market system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economic crisis of 2008/09 has challenged the policy posture that were advocated by Bretton Wood Institution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w economic systems and models are being investigated and what is emerging is that Government has a role to play to drive economic emancipation of all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3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hape 111"/>
          <p:cNvSpPr/>
          <p:nvPr/>
        </p:nvSpPr>
        <p:spPr>
          <a:xfrm>
            <a:off x="8225640" y="6400800"/>
            <a:ext cx="7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00B69-5AE7-4C02-9254-FFBBE95170B4}" type="slidenum">
              <a:rPr b="0" lang="en-US" sz="1200" spc="-1" strike="noStrike">
                <a:solidFill>
                  <a:srgbClr val="88888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984807"/>
                </a:solidFill>
                <a:latin typeface="Arial"/>
                <a:ea typeface="Arial"/>
              </a:rPr>
              <a:t>Influence of SOEs in the global econom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35760" y="1353600"/>
            <a:ext cx="2651040" cy="4287960"/>
          </a:xfrm>
          <a:prstGeom prst="rect">
            <a:avLst/>
          </a:prstGeom>
          <a:noFill/>
          <a:ln w="12600">
            <a:solidFill>
              <a:srgbClr val="d9d9d9"/>
            </a:solidFill>
            <a:miter/>
          </a:ln>
        </p:spPr>
        <p:txBody>
          <a:bodyPr lIns="45720" rIns="4572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700" spc="-1" strike="noStrike">
                <a:solidFill>
                  <a:srgbClr val="000000"/>
                </a:solidFill>
                <a:latin typeface="Arial"/>
                <a:ea typeface="Arial"/>
              </a:rPr>
              <a:t>There has been a growing number of SOEs that are forming part of the Global 500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700" spc="-1" strike="noStrike">
                <a:solidFill>
                  <a:srgbClr val="000000"/>
                </a:solidFill>
                <a:latin typeface="Arial"/>
                <a:ea typeface="Arial"/>
              </a:rPr>
              <a:t>In 2014, 23 percent of the Global 500 companies were SOEs from 9 percent in 2005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700" spc="-1" strike="noStrike">
                <a:solidFill>
                  <a:srgbClr val="000000"/>
                </a:solidFill>
                <a:latin typeface="Arial"/>
                <a:ea typeface="Arial"/>
              </a:rPr>
              <a:t>SOEs have also become major players in Foreign Direct Investments and “are investing beyong their domestic borders”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2"/>
          <p:cNvSpPr/>
          <p:nvPr/>
        </p:nvSpPr>
        <p:spPr>
          <a:xfrm>
            <a:off x="8186040" y="6400800"/>
            <a:ext cx="7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E6C6F-B2B1-4225-BAA3-85E8B8D573EB}" type="slidenum">
              <a:rPr b="0" lang="en-US" sz="1200" spc="-1" strike="noStrike">
                <a:solidFill>
                  <a:srgbClr val="88888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119160" y="1353960"/>
            <a:ext cx="5783040" cy="4287960"/>
          </a:xfrm>
          <a:prstGeom prst="rect">
            <a:avLst/>
          </a:prstGeom>
          <a:ln w="9360">
            <a:solidFill>
              <a:srgbClr val="bfbfbf"/>
            </a:solidFill>
            <a:miter/>
          </a:ln>
        </p:spPr>
      </p:pic>
      <p:pic>
        <p:nvPicPr>
          <p:cNvPr id="192" name="TextBox 3" descr=""/>
          <p:cNvPicPr/>
          <p:nvPr/>
        </p:nvPicPr>
        <p:blipFill>
          <a:blip r:embed="rId2"/>
          <a:stretch/>
        </p:blipFill>
        <p:spPr>
          <a:xfrm>
            <a:off x="171360" y="5797440"/>
            <a:ext cx="2028960" cy="49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1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84807"/>
                </a:solidFill>
                <a:latin typeface="Arial"/>
                <a:ea typeface="Arial"/>
              </a:rPr>
              <a:t>Emerging Role of SOEs in BRICS Countries 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hape 111"/>
          <p:cNvSpPr/>
          <p:nvPr/>
        </p:nvSpPr>
        <p:spPr>
          <a:xfrm>
            <a:off x="8225640" y="6400800"/>
            <a:ext cx="7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87448-C9FD-45B0-9C0B-6925F33F13FB}" type="slidenum">
              <a:rPr b="0" lang="en-US" sz="1200" spc="-1" strike="noStrike">
                <a:solidFill>
                  <a:srgbClr val="88888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Diagram 1" descr=""/>
          <p:cNvPicPr/>
          <p:nvPr/>
        </p:nvPicPr>
        <p:blipFill>
          <a:blip r:embed="rId1"/>
          <a:stretch/>
        </p:blipFill>
        <p:spPr>
          <a:xfrm>
            <a:off x="115920" y="1390680"/>
            <a:ext cx="4937040" cy="4863960"/>
          </a:xfrm>
          <a:prstGeom prst="rect">
            <a:avLst/>
          </a:prstGeom>
          <a:ln w="0">
            <a:noFill/>
          </a:ln>
        </p:spPr>
      </p:pic>
      <p:pic>
        <p:nvPicPr>
          <p:cNvPr id="196" name="TextBox 2" descr=""/>
          <p:cNvPicPr/>
          <p:nvPr/>
        </p:nvPicPr>
        <p:blipFill>
          <a:blip r:embed="rId2"/>
          <a:stretch/>
        </p:blipFill>
        <p:spPr>
          <a:xfrm>
            <a:off x="5175360" y="1359000"/>
            <a:ext cx="3835440" cy="484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hape 167"/>
          <p:cNvSpPr/>
          <p:nvPr/>
        </p:nvSpPr>
        <p:spPr>
          <a:xfrm>
            <a:off x="8186040" y="6400800"/>
            <a:ext cx="7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DA1F3-5BB0-4C78-B193-FDD3F5B820FE}" type="slidenum">
              <a:rPr b="0" lang="en-US" sz="1200" spc="-1" strike="noStrike">
                <a:solidFill>
                  <a:srgbClr val="88888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current economic context has elevated the role of the State in influencing economic discours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Es have been growing their influence in international business and becoming global player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Es have a significant role to promote the realisation of the BRICS founding principle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84807"/>
                </a:solidFill>
                <a:latin typeface="Calibri"/>
              </a:rPr>
              <a:t>Conclusion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alia Ismail</dc:creator>
  <dc:description/>
  <dc:language>en-US</dc:language>
  <cp:lastModifiedBy>Orcilla Ruthnam</cp:lastModifiedBy>
  <cp:lastPrinted>2016-11-11T09:02:46Z</cp:lastPrinted>
  <dcterms:modified xsi:type="dcterms:W3CDTF">2016-11-15T13:24:23Z</dcterms:modified>
  <cp:revision>76</cp:revision>
  <dc:subject/>
  <dc:title>PowerPoint Presentation</dc:title>
</cp:coreProperties>
</file>